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F090-F058-479A-8986-C530C58CB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BA50-AFEC-4E52-8392-F3DB6310E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CEF7-420A-46A5-BD81-19731D008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D82F-B787-4194-AD8E-A0F79DBC8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0901D-7C4D-4661-9241-06FE91719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72488-EE56-4307-87CE-5BBDC8F26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5AF9B-EC89-468F-8DD6-4EB9260F2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2C5FA-F09E-4ED0-B7FE-ABE7C8D79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A9F26-6D47-40A4-B273-190171F70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2D459-CF8D-42B4-822B-B6D3C4E23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99172-3F6C-4255-820F-F64E5A9E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06EB-5163-4030-BF56-30E9E0856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68FC0-AFEB-49D1-B07E-D89B3959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5D6A7-17FB-4569-92B4-CEFBE8AA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EA636-EE13-4AE0-873A-D0A474BC3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EB818-9822-4B74-B2B4-E14F8C316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BD953-2E54-4093-A91C-9F1C0B859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A01F-5481-496C-9C5F-62A0959C6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F987-7F88-4400-962A-92D1048A7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BB76-8BB4-4853-891F-7C38E4E8D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60B8-99B5-4F7C-81E1-C2D722CA5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7869-F395-4527-8E71-A3861389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75D5-98FA-4A21-872C-5167BB07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3A83-ED49-474F-B482-AD707BD3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2ADFB-BACD-48E3-A552-E03725195D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6053D-85F5-47D7-B3B4-AD09CFADE5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 rtl="1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 rtl="1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062160" y="3048120"/>
            <a:ext cx="3110040" cy="8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e_Granada"/>
              </a:rPr>
              <a:t>القصه</a:t>
            </a:r>
            <a:endParaRPr b="1" lang="en-US" sz="1800" spc="1" strike="noStrike">
              <a:ln w="3816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e_Granada"/>
              <a:ea typeface="ae_Granada"/>
            </a:endParaRPr>
          </a:p>
        </p:txBody>
      </p:sp>
      <p:sp>
        <p:nvSpPr>
          <p:cNvPr id="121" name=""/>
          <p:cNvSpPr txBox="1"/>
          <p:nvPr/>
        </p:nvSpPr>
        <p:spPr>
          <a:xfrm rot="5400000">
            <a:off x="-1428840" y="3819600"/>
            <a:ext cx="4305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path path="rect">
                    <a:fillToRect l="50000" t="50000" r="50000" b="50000"/>
                  </a:path>
                </a:gradFill>
                <a:latin typeface="B Elham"/>
              </a:rPr>
              <a:t>الصف الثالث الإعدادى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path path="rect">
                  <a:fillToRect l="50000" t="50000" r="50000" b="50000"/>
                </a:path>
              </a:gradFill>
              <a:latin typeface="B Elham"/>
              <a:ea typeface="B Elham"/>
            </a:endParaRPr>
          </a:p>
        </p:txBody>
      </p:sp>
      <p:sp>
        <p:nvSpPr>
          <p:cNvPr id="122" name=""/>
          <p:cNvSpPr txBox="1"/>
          <p:nvPr/>
        </p:nvSpPr>
        <p:spPr>
          <a:xfrm rot="16200000">
            <a:off x="6215040" y="3810240"/>
            <a:ext cx="4300560" cy="90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path path="rect">
                    <a:fillToRect l="50000" t="50000" r="50000" b="50000"/>
                  </a:path>
                </a:gradFill>
                <a:latin typeface="B Elham"/>
              </a:rPr>
              <a:t>رحله إلى مركز الأرض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path path="rect">
                  <a:fillToRect l="50000" t="50000" r="50000" b="50000"/>
                </a:path>
              </a:gradFill>
              <a:latin typeface="B Elham"/>
              <a:ea typeface="B Elham"/>
            </a:endParaRPr>
          </a:p>
        </p:txBody>
      </p:sp>
    </p:spTree>
  </p:cSld>
  <p:transition advTm="3000"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1495440"/>
            <a:ext cx="8076960" cy="1171440"/>
          </a:xfrm>
          <a:prstGeom prst="flowChartAlternateProcess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81080" y="414360"/>
            <a:ext cx="87627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381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75"/>
                    </a:gs>
                    <a:gs pos="50000">
                      <a:srgbClr val="0000ff"/>
                    </a:gs>
                    <a:gs pos="100000">
                      <a:srgbClr val="000075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B Esfehan"/>
              </a:rPr>
              <a:t>قصــــــــه</a:t>
            </a:r>
            <a:endParaRPr b="1" lang="en-US" sz="1800" spc="1" strike="noStrike">
              <a:ln w="381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75"/>
                  </a:gs>
                  <a:gs pos="50000">
                    <a:srgbClr val="0000ff"/>
                  </a:gs>
                  <a:gs pos="100000">
                    <a:srgbClr val="000075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B Esfehan"/>
              <a:ea typeface="B Esfeh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42960" y="1528920"/>
            <a:ext cx="7772400" cy="52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Jerk"/>
              </a:rPr>
              <a:t>Journey To The Centre Of The Earth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Jerk"/>
              <a:ea typeface="Jerk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14400" y="2776680"/>
            <a:ext cx="3581280" cy="51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Characters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09520" y="3624120"/>
            <a:ext cx="8520120" cy="47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Axel: A young boy who lives with his uncle Professor Lidenbrock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843440" y="2762280"/>
            <a:ext cx="3200400" cy="69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FS_Cairo"/>
              </a:rPr>
              <a:t>الشخصيات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FS_Cairo"/>
              <a:ea typeface="FS_Cairo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409840" y="4033800"/>
            <a:ext cx="6529320" cy="4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أكسل: شاب يعيش مع عمه بروفيسير ليدنبروك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247760" y="490680"/>
            <a:ext cx="482904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7175e"/>
                    </a:gs>
                    <a:gs pos="50000">
                      <a:srgbClr val="3333cc"/>
                    </a:gs>
                    <a:gs pos="100000">
                      <a:srgbClr val="17175e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TORY</a:t>
            </a:r>
            <a:endParaRPr b="0" lang="en-US" sz="1800" spc="1" strike="noStrike">
              <a:ln w="381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7175e"/>
                  </a:gs>
                  <a:gs pos="50000">
                    <a:srgbClr val="3333cc"/>
                  </a:gs>
                  <a:gs pos="100000">
                    <a:srgbClr val="17175e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143000" y="2090880"/>
            <a:ext cx="6705720" cy="50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KacstArt"/>
              </a:rPr>
              <a:t>رحله إلى مركز الأرض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KacstArt"/>
              <a:ea typeface="KacstArt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90440" y="4629240"/>
            <a:ext cx="86011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Professor Lidenbrock: A famous scientist and geologist . Axel’ s uncle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523880" y="5100480"/>
            <a:ext cx="741060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بروفيسير ليدنبروك: عالم مشهور وجيولوجى ، عم أكسل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95120" y="5681520"/>
            <a:ext cx="6205680" cy="3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Martha: Professor Lidenbrock’ s cook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505320" y="6062760"/>
            <a:ext cx="5429160" cy="36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مارثا: طباخة بروفيسير ليدنبروك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</p:spTree>
  </p:cSld>
  <p:transition advTm="3000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95120" y="547560"/>
            <a:ext cx="4681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Hans: A guide from Iceland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257800" y="914400"/>
            <a:ext cx="36766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هانز: مرشد من أيسلندا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00160" y="1442880"/>
            <a:ext cx="60483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Dr Fridrikson: A scientist from Iceland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00160" y="2308320"/>
            <a:ext cx="520992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Jules Verne: A writer of the story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00160" y="3195720"/>
            <a:ext cx="69627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Snorri Sturlasson: A writer of the old book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95120" y="4052880"/>
            <a:ext cx="7653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Arne Saknussemm: A writer of the parchment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276720" y="1857240"/>
            <a:ext cx="56577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دكتور فريدريكسون: عالم من أيسلندا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952880" y="2824200"/>
            <a:ext cx="3981600" cy="29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جول فيرن: كاتب القصه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657600" y="3648240"/>
            <a:ext cx="5276880" cy="3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سنورى سترلاسون: كاتب الكتاب القديم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448160" y="4557600"/>
            <a:ext cx="44956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آرن ساكنوسم: كاتب البرشمان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</p:spTree>
  </p:cSld>
  <p:transition advTm="3000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1066680" y="423720"/>
            <a:ext cx="3429000" cy="4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laces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00160" y="1162080"/>
            <a:ext cx="49053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Hamburg: A city in Germany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829040" y="380880"/>
            <a:ext cx="312444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FS_Cairo"/>
              </a:rPr>
              <a:t>الأماكن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FS_Cairo"/>
              <a:ea typeface="FS_Cairo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562720" y="1533600"/>
            <a:ext cx="337176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هامبورج: مدينه فى ألمانيا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95120" y="2023920"/>
            <a:ext cx="7120080" cy="51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Iceland: An island in the North Sea above Europe . 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124080" y="2486160"/>
            <a:ext cx="581040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أيسلندا: جزيره فى بحر الشمال فوق أوروبا 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00160" y="3024360"/>
            <a:ext cx="6662520" cy="3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Reykjavik: The capital city of Iceland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105520" y="3443400"/>
            <a:ext cx="38289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ريكجافيك: عاصمة أيسلندا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95120" y="3913200"/>
            <a:ext cx="6205680" cy="3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Sneffels: An axticit volcano in Iceland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267080" y="4352760"/>
            <a:ext cx="4667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سنيفلز: بركان خامد فى أيسلندا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95120" y="4853160"/>
            <a:ext cx="6662880" cy="3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Scartaris: A high mountain in Iceland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733920" y="5229360"/>
            <a:ext cx="52005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سكارتاريس: جبل عالى فى أيسلندا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95120" y="5718240"/>
            <a:ext cx="6662880" cy="3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Copenhagen: The capital city of Denmark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105520" y="6138720"/>
            <a:ext cx="38289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كوبنهاجن: عاصمة الدنمارك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</p:spTree>
  </p:cSld>
  <p:transition advTm="3000"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195120" y="442800"/>
            <a:ext cx="8263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Stromboli: A small island off the coast of southern Italy 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438280" y="890640"/>
            <a:ext cx="649620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سترومبولى: جزيره صغيره بعيده عن الساحل الجنوبى لإيطاليا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95120" y="1400040"/>
            <a:ext cx="6510600" cy="51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San Vicenzo: The largest town on Stromboli . 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124080" y="1795320"/>
            <a:ext cx="581040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سان فتشنزو: أوسع بلده فى سترومبولى 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95120" y="2347920"/>
            <a:ext cx="7425000" cy="3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Messina: A port on the island of Sicily, Italy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743200" y="2771640"/>
            <a:ext cx="61912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ميسينا: ميناء على جزيرة صقليه فى إيطاليا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95120" y="3233880"/>
            <a:ext cx="7958160" cy="3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Marseilles: A port on the southern coast of France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743200" y="3672000"/>
            <a:ext cx="61912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مارسيليا: ميناء على الساحل الجنوبى لفرنسا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71600" y="5715000"/>
            <a:ext cx="6172200" cy="87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Kufi14 Normal"/>
              </a:rPr>
              <a:t>إلى اللقاء مع الفصل الأول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Kufi14 Normal"/>
              <a:ea typeface="Kufi14 Normal"/>
            </a:endParaRPr>
          </a:p>
        </p:txBody>
      </p:sp>
    </p:spTree>
  </p:cSld>
  <p:transition advTm="3000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0T03:57:59Z</dcterms:created>
  <dc:creator>A1-AL-FARIS</dc:creator>
  <dc:description/>
  <dc:language>en-US</dc:language>
  <cp:lastModifiedBy>Arwa</cp:lastModifiedBy>
  <dcterms:modified xsi:type="dcterms:W3CDTF">2009-09-28T19:39:53Z</dcterms:modified>
  <cp:revision>14</cp:revision>
  <dc:subject/>
  <dc:title>الشريحة 1</dc:title>
</cp:coreProperties>
</file>